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440-2558-477E-B191-542DB975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10C-E316-4DA2-88BE-B45A417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556-17B4-4C9D-BAE3-297E7AC4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E67-EC3E-4D2E-AE53-CBE4DED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0A0-2BDB-44B8-9B8A-DE88B21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F71-A182-4B7A-A76D-916AAD1C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162-6EDF-41FA-A2F9-AE12A739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A75-F848-4C82-BA91-C2D4F99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39F-699B-4460-8DC4-67702DCD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679-248D-4D20-9FC0-F6D6CA53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0A3-E8A0-4DB1-A510-E66192E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CF7-B173-42D8-BEA0-30F9A14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B01-14FB-43A2-A104-CD8C27008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tau%20d&apos;ajusteur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 Rôle de la schémat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hématisation sert 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mpl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représentation d'un objet, on peut vouloir représenter 2 chos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09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- Les mouv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nématiques à l'intérieur de cet objet afin d'en comprendre le fonctionnement, d’o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le schéma ciné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09480" y="3124080"/>
            <a:ext cx="3886200" cy="3444840"/>
            <a:chOff x="609480" y="3124080"/>
            <a:chExt cx="3886200" cy="34448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38677" t="33458" r="37323" b="34523"/>
            <a:stretch/>
          </p:blipFill>
          <p:spPr>
            <a:xfrm>
              <a:off x="609480" y="3657600"/>
              <a:ext cx="3886200" cy="29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219320" y="3124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ssin d’ensem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257800" y="3124080"/>
            <a:ext cx="2895480" cy="2992680"/>
            <a:chOff x="5257800" y="3124080"/>
            <a:chExt cx="2895480" cy="2992680"/>
          </a:xfrm>
        </p:grpSpPr>
        <p:sp>
          <p:nvSpPr>
            <p:cNvPr id="49" name=""/>
            <p:cNvSpPr/>
            <p:nvPr/>
          </p:nvSpPr>
          <p:spPr>
            <a:xfrm>
              <a:off x="5334120" y="3124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chéma cinéma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rcRect l="43339" t="40576" r="41987" b="39287"/>
            <a:stretch/>
          </p:blipFill>
          <p:spPr>
            <a:xfrm>
              <a:off x="5257800" y="3886200"/>
              <a:ext cx="2895480" cy="2230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990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sses d'équival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752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 : mouvement de rotation + tran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133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ièce :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 : mouvement de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ièce 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G : mouvement de translation + 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267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ièces 12,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 : pièces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548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utes les autres piè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ais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62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 / F : liaison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 / H : liaison hélicoï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191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 / G : liaison pivot-gliss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14800" y="1066680"/>
            <a:ext cx="4876920" cy="4697640"/>
            <a:chOff x="4114800" y="1066680"/>
            <a:chExt cx="4876920" cy="4697640"/>
          </a:xfrm>
        </p:grpSpPr>
        <p:sp>
          <p:nvSpPr>
            <p:cNvPr id="136" name=""/>
            <p:cNvSpPr/>
            <p:nvPr/>
          </p:nvSpPr>
          <p:spPr>
            <a:xfrm>
              <a:off x="4876920" y="10666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Schéma technolog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rcRect l="35339" t="29872" r="36000" b="29760"/>
            <a:stretch/>
          </p:blipFill>
          <p:spPr>
            <a:xfrm>
              <a:off x="4114800" y="1905120"/>
              <a:ext cx="4876920" cy="385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- Les assembl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les différentes pièces afin d'en comprendre le montage, d’où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héma technolog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14400" y="2590920"/>
            <a:ext cx="3200400" cy="2877840"/>
            <a:chOff x="914400" y="2590920"/>
            <a:chExt cx="3200400" cy="28778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39339" t="38334" r="40661" b="35588"/>
            <a:stretch/>
          </p:blipFill>
          <p:spPr>
            <a:xfrm>
              <a:off x="914400" y="3124080"/>
              <a:ext cx="320040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143000" y="2590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ssin d’ensem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72000" y="2590920"/>
            <a:ext cx="3733920" cy="2863800"/>
            <a:chOff x="4572000" y="2590920"/>
            <a:chExt cx="3733920" cy="2863800"/>
          </a:xfrm>
        </p:grpSpPr>
        <p:sp>
          <p:nvSpPr>
            <p:cNvPr id="57" name=""/>
            <p:cNvSpPr/>
            <p:nvPr/>
          </p:nvSpPr>
          <p:spPr>
            <a:xfrm>
              <a:off x="4952880" y="2590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chéma technolog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rcRect l="41323" t="40576" r="42677" b="41641"/>
            <a:stretch/>
          </p:blipFill>
          <p:spPr>
            <a:xfrm>
              <a:off x="4572000" y="3124080"/>
              <a:ext cx="3733920" cy="233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Schéma ciné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est le schéma le plus important, celui qui sera joint à toute explication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peu complexe. Pour l'établir suivre l'organigramme suiv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666880"/>
            <a:ext cx="48006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(s) étape(s) du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0" y="3200400"/>
            <a:ext cx="4800600" cy="838080"/>
            <a:chOff x="2286000" y="3200400"/>
            <a:chExt cx="4800600" cy="838080"/>
          </a:xfrm>
        </p:grpSpPr>
        <p:sp>
          <p:nvSpPr>
            <p:cNvPr id="64" name=""/>
            <p:cNvSpPr/>
            <p:nvPr/>
          </p:nvSpPr>
          <p:spPr>
            <a:xfrm>
              <a:off x="449568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3505320"/>
              <a:ext cx="480060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l(s) classe(s) d’équiva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28800" y="4800600"/>
            <a:ext cx="5791320" cy="838080"/>
            <a:chOff x="1828800" y="4800600"/>
            <a:chExt cx="5791320" cy="838080"/>
          </a:xfrm>
        </p:grpSpPr>
        <p:sp>
          <p:nvSpPr>
            <p:cNvPr id="67" name=""/>
            <p:cNvSpPr/>
            <p:nvPr/>
          </p:nvSpPr>
          <p:spPr>
            <a:xfrm>
              <a:off x="1828800" y="5105520"/>
              <a:ext cx="579132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l(s)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mouvement(s) donc quelle li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95680" y="4800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5638680"/>
            <a:ext cx="2279520" cy="836640"/>
            <a:chOff x="3429000" y="5638680"/>
            <a:chExt cx="2279520" cy="836640"/>
          </a:xfrm>
        </p:grpSpPr>
        <p:sp>
          <p:nvSpPr>
            <p:cNvPr id="70" name=""/>
            <p:cNvSpPr/>
            <p:nvPr/>
          </p:nvSpPr>
          <p:spPr>
            <a:xfrm>
              <a:off x="3429000" y="5943600"/>
              <a:ext cx="2279520" cy="53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É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86000" y="4038480"/>
            <a:ext cx="4800600" cy="762120"/>
            <a:chOff x="2286000" y="4038480"/>
            <a:chExt cx="4800600" cy="762120"/>
          </a:xfrm>
        </p:grpSpPr>
        <p:sp>
          <p:nvSpPr>
            <p:cNvPr id="73" name=""/>
            <p:cNvSpPr/>
            <p:nvPr/>
          </p:nvSpPr>
          <p:spPr>
            <a:xfrm>
              <a:off x="2286000" y="4343400"/>
              <a:ext cx="48006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lle(s)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surface(s) de cont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5238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s pièces n'ont pas d'épaisse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s un schéma, par contre le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es essentiel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t respectées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505320" y="914400"/>
            <a:ext cx="5486400" cy="5465880"/>
            <a:chOff x="3505320" y="914400"/>
            <a:chExt cx="5486400" cy="5465880"/>
          </a:xfrm>
        </p:grpSpPr>
        <p:pic>
          <p:nvPicPr>
            <p:cNvPr id="78" name="" descr=""/>
            <p:cNvPicPr/>
            <p:nvPr/>
          </p:nvPicPr>
          <p:blipFill>
            <a:blip r:embed="rId2">
              <a:biLevel thresh="50000"/>
            </a:blip>
            <a:srcRect l="27287" t="12865" r="26808" b="12776"/>
            <a:stretch/>
          </p:blipFill>
          <p:spPr>
            <a:xfrm>
              <a:off x="3505320" y="1523880"/>
              <a:ext cx="5486400" cy="48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238880" y="914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ersp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1320" y="914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1680" y="1371600"/>
              <a:ext cx="763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172200" y="1371600"/>
              <a:ext cx="763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2400" y="1371600"/>
              <a:ext cx="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28600" y="3505320"/>
            <a:ext cx="335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utilise la représentation en projection ou en perspective suivant la position des axes des mouvements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 utilisant les schémas des liais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appelés ci-c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990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3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à dessiner le schéma cinématique de l'étau d’ajusteur (voir dessin d'ensem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Etau%20d'ajusteur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2438280"/>
            <a:ext cx="42674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1495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1 → On positionne la pièce entre les mor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156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2 → On tourne la poignée 3 puis on ser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1464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 → On tourne la poignée 3 en sens inverse et on retire la piè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191120" y="1533600"/>
            <a:ext cx="4800600" cy="4790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9144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fonctionnement est le suiv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90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sses d'équival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600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 : mouvement de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057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èces : 1, 2, 4, 5’, 6’,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59092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 : mouvements de rotation + tran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048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ièce 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053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: mouvements de rotation + tran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962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èces : 3, 1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D : pièces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952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ièces : 5, 6, 7, 9, 10, 11, 12, 13,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ais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981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/ D : liaison glissièr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 / D : liaison hélicoïdal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/ B : liaison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 / C : liaison pivot-gliss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1143000"/>
            <a:ext cx="4345200" cy="4564080"/>
            <a:chOff x="4267080" y="1143000"/>
            <a:chExt cx="4345200" cy="4564080"/>
          </a:xfrm>
        </p:grpSpPr>
        <p:sp>
          <p:nvSpPr>
            <p:cNvPr id="113" name=""/>
            <p:cNvSpPr/>
            <p:nvPr/>
          </p:nvSpPr>
          <p:spPr>
            <a:xfrm>
              <a:off x="4876920" y="11430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Schéma cinéma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rcRect l="33984" t="20400" r="36000" b="30993"/>
            <a:stretch/>
          </p:blipFill>
          <p:spPr>
            <a:xfrm>
              <a:off x="4267080" y="1752480"/>
              <a:ext cx="4345200" cy="395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7180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chémat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195640"/>
                <a:tab algn="l" pos="4390920"/>
                <a:tab algn="l" pos="6586560"/>
                <a:tab algn="l" pos="8782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Schéma technologique ou schéma d'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6765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schéma permet de mieux comprendre comment son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ssemblées les piè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'un mécanisme. Les classes d'équivalence sont celles liées aux mouvements lors de l'assemblage étudi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114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vous demande de dessiner le schéma d'assemblage de l'étau sur l'étab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4:49:11Z</dcterms:created>
  <dc:creator>jacques fraboulet</dc:creator>
  <dc:description/>
  <dc:language>en-US</dc:language>
  <cp:lastModifiedBy>jacques fraboulet</cp:lastModifiedBy>
  <dcterms:modified xsi:type="dcterms:W3CDTF">2005-05-24T15:24:22Z</dcterms:modified>
  <cp:revision>21</cp:revision>
  <dc:subject/>
  <dc:title>Présentation PowerPoint</dc:title>
</cp:coreProperties>
</file>